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458D-31C6-4392-A0FF-90F13FFE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1126-ECCD-4696-A531-D7BAD5AE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033D-0494-474C-B6CD-5B722B9E4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D6C4-F12C-4276-9083-644E4A31D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027C-7AF2-4625-8F11-CC91445D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6DB6-7BEC-4EFD-AF6C-A9EC77E8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D6A3-61F0-4497-8796-3187B0F7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80A3-AB84-4A67-B2C0-3D2EB993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A156-5E64-4E27-ACD6-ED25566C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7F70-49B3-49C6-88E0-B89F8329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9254-317E-474D-A373-5D557E14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7F20-9FAC-4605-B63C-14386F4D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4F8E-26B4-40F6-81FE-894F2DE31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46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Monotype Corsiva"/>
              </a:rPr>
              <a:t>A Day in the lif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27280" y="2565360"/>
            <a:ext cx="42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By Jade Pennycott 7L2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4360" y="3789360"/>
            <a:ext cx="187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Fri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675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Ho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4356000" cy="3576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716360" y="2060640"/>
            <a:ext cx="374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On a Friday we go home at 2:30 instead of 3:1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17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Registr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619280" y="1557360"/>
            <a:ext cx="64008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In the mornings we all go to our tutor room to check we are all the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whrry"/>
          <p:cNvPicPr/>
          <p:nvPr/>
        </p:nvPicPr>
        <p:blipFill>
          <a:blip r:embed="rId1"/>
          <a:stretch/>
        </p:blipFill>
        <p:spPr>
          <a:xfrm>
            <a:off x="2843280" y="291456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2f5e7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P.E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pe"/>
          <p:cNvPicPr/>
          <p:nvPr/>
        </p:nvPicPr>
        <p:blipFill>
          <a:blip r:embed="rId1"/>
          <a:stretch/>
        </p:blipFill>
        <p:spPr>
          <a:xfrm>
            <a:off x="250920" y="2060640"/>
            <a:ext cx="4968720" cy="3727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580000" y="1844640"/>
            <a:ext cx="30243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In P.E we play lots of different sports. At the moment we are playing hockey I have learnt a lot in P.E even though it isn’t one of my favourite su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1700"/>
            </a:gs>
            <a:gs pos="100000">
              <a:srgbClr val="ff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D.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saw"/>
          <p:cNvPicPr/>
          <p:nvPr/>
        </p:nvPicPr>
        <p:blipFill>
          <a:blip r:embed="rId1"/>
          <a:stretch/>
        </p:blipFill>
        <p:spPr>
          <a:xfrm>
            <a:off x="324000" y="1413000"/>
            <a:ext cx="4176720" cy="4176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932360" y="1557360"/>
            <a:ext cx="3745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I really enjoy D.T I am making a woodpecker at the moment, when I have finished it should  peck the wood when I pull a str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7575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Brea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211640" y="1916280"/>
            <a:ext cx="4932360" cy="3698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1557360"/>
            <a:ext cx="352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During break everyone goes anywhere they want to really. This picture is of some people in the back fiel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5e"/>
            </a:gs>
            <a:gs pos="100000">
              <a:srgbClr val="ff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D.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3887640" cy="2917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3940200"/>
            <a:ext cx="3889440" cy="2917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140360" y="1700280"/>
            <a:ext cx="460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Here is another picture for D.T because on a Friday we have double D.T . The first picture is of D.T 1 and the second is of D.T 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Lun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435640" y="1844640"/>
            <a:ext cx="3313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This is the outside of the canteen. You can eat there if you are dinners or packed lun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R.E   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crucifix"/>
          <p:cNvPicPr/>
          <p:nvPr/>
        </p:nvPicPr>
        <p:blipFill>
          <a:blip r:embed="rId2"/>
          <a:stretch/>
        </p:blipFill>
        <p:spPr>
          <a:xfrm>
            <a:off x="684360" y="1413000"/>
            <a:ext cx="2857320" cy="4657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211640" y="1700280"/>
            <a:ext cx="410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In R.E we learn about lots of different religions. I am not religious though.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Germ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german flag"/>
          <p:cNvPicPr/>
          <p:nvPr/>
        </p:nvPicPr>
        <p:blipFill>
          <a:blip r:embed="rId1"/>
          <a:stretch/>
        </p:blipFill>
        <p:spPr>
          <a:xfrm>
            <a:off x="250920" y="1989000"/>
            <a:ext cx="3816360" cy="3046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788000" y="2276640"/>
            <a:ext cx="352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I am learning German at school it is sehr gud (very good in German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10:46:27Z</dcterms:created>
  <dc:creator>8jadepennycott</dc:creator>
  <dc:description/>
  <dc:language>en-US</dc:language>
  <cp:lastModifiedBy>8jadepennycott</cp:lastModifiedBy>
  <dcterms:modified xsi:type="dcterms:W3CDTF">2008-10-21T10:45:55Z</dcterms:modified>
  <cp:revision>8</cp:revision>
  <dc:subject/>
  <dc:title>Registration</dc:title>
</cp:coreProperties>
</file>